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gif" ContentType="image/gif"/>
  <Override PartName="/ppt/media/image8.gif" ContentType="image/gif"/>
  <Override PartName="/ppt/media/image6.gif" ContentType="image/gif"/>
  <Override PartName="/ppt/media/image5.jpeg" ContentType="image/jpeg"/>
  <Override PartName="/ppt/media/image7.gif" ContentType="image/gif"/>
  <Override PartName="/ppt/media/image19.jpeg" ContentType="image/jpeg"/>
  <Override PartName="/ppt/media/image17.jpeg" ContentType="image/jpeg"/>
  <Override PartName="/ppt/media/image14.png" ContentType="image/png"/>
  <Override PartName="/ppt/media/image16.gif" ContentType="image/gif"/>
  <Override PartName="/ppt/media/image2.png" ContentType="image/png"/>
  <Override PartName="/ppt/media/image11.jpeg" ContentType="image/jpeg"/>
  <Override PartName="/ppt/media/image9.jpeg" ContentType="image/jpeg"/>
  <Override PartName="/ppt/media/image15.jpeg" ContentType="image/jpeg"/>
  <Override PartName="/ppt/media/image18.gif" ContentType="image/gif"/>
  <Override PartName="/ppt/media/image13.jpeg" ContentType="image/jpeg"/>
  <Override PartName="/ppt/media/Merry%20Gentlemen.wav" ContentType="audio/x-wav"/>
  <Override PartName="/ppt/media/image3.jpeg" ContentType="image/jpeg"/>
  <Override PartName="/ppt/media/image1.jpeg" ContentType="image/jpeg"/>
  <Override PartName="/ppt/media/image4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FE29-5A84-438D-80CC-39BC64A4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160-01B6-4E46-A668-DA0EC000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784A-E4E6-4891-A265-D170CF05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80C4-298C-48D6-A5D4-644B5D24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A92-D2E1-4AEB-AF08-BB7540E5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A7D-6771-4C50-A3BB-0815C90C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CE98-05D6-4043-968D-3E326EA3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A92-F1EB-436D-85A6-8BDFCEAD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11E-96B3-4292-900D-E63D2049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972-867F-427A-9588-17E0F83D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8D9-0A01-4A4E-AB3B-9C2885568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5A3-E0C5-41B3-B894-D32DEDAC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BFE0-8FFC-493A-B7CB-5D087A28E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Merry%20Gentlemen.wav" TargetMode="External"/><Relationship Id="rId3" Type="http://schemas.microsoft.com/office/2007/relationships/media" Target="file:///tmp/home/.config/libreoffice/4/user/gallery/Merry%20Gentlemen.wav" TargetMode="External"/><Relationship Id="rId4" Type="http://schemas.openxmlformats.org/officeDocument/2006/relationships/image" Target="../media/image2.png"/><Relationship Id="rId5" Type="http://schemas.openxmlformats.org/officeDocument/2006/relationships/audio" Target="../media/Merry%20Gentlemen.wav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Merry%20Gentlemen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d rest mery gentle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932000" y="5373360"/>
            <a:ext cx="421164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a, Aurora, Nahomi, Carlos ,Adrian,Alberto y  I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38836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  <p:sndAc>
      <p:stSnd>
        <p:snd r:embed="rId5" name="Merry%20Gentleme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498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3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How, that in behtlehem was born,</a:t>
            </a:r>
            <a:br>
              <a:rPr sz="3600"/>
            </a:br>
            <a:r>
              <a:rPr b="0" i="1" lang="es-ES" sz="3600" spc="-1" strike="noStrike">
                <a:solidFill>
                  <a:srgbClr val="000000"/>
                </a:solidFill>
                <a:latin typeface="Arial"/>
              </a:rPr>
              <a:t>the son of god by nam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h tidings of comfort and joy´, comfort and joy , oh tidings of comfort and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strumenta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h tidings of comfort and joy´, comfort and joy , oh tidings of comfort and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strips dir="rd"/>
    <p:sndAc>
      <p:stSnd>
        <p:snd r:embed="rId2" name="Merry%20Gentlemen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219280" y="620280"/>
            <a:ext cx="39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he shepherds at these tidings, Rejoiced much in mind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88000" y="907560"/>
            <a:ext cx="40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left their flocks a feeding, in tempest storm and wi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went to Bethlehem straight way,the blessed babe to fi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Oh tidings of comfort and joy , comfort and joy , Oh tidings of comfort and jo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God rest ye merry gentlemen let nothing you disma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Remember Christ our saviour , Was born on christmas day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mb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To save us all from Satan´s power , when we were gone astray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oh tiding of comfort and joy comfort and j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oh tiding of comfort and joy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om God our heavenly father 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 blessed Angel came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unto certain shepherds,brought tidings of the s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4:45:19Z</dcterms:created>
  <dc:creator>pc10</dc:creator>
  <dc:description/>
  <dc:language>en-US</dc:language>
  <cp:lastModifiedBy>pc10</cp:lastModifiedBy>
  <dcterms:modified xsi:type="dcterms:W3CDTF">2010-12-29T17:43:04Z</dcterms:modified>
  <cp:revision>12</cp:revision>
  <dc:subject/>
  <dc:title>Diapositiva 1</dc:title>
</cp:coreProperties>
</file>